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954838" cy="9240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42640" y="60912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"/>
          <p:cNvSpPr/>
          <p:nvPr/>
        </p:nvSpPr>
        <p:spPr>
          <a:xfrm>
            <a:off x="533520" y="6308640"/>
            <a:ext cx="2895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Educational Research: Competencies for Analysis and Application, 9</a:t>
            </a:r>
            <a:r>
              <a:rPr b="0" i="1" lang="en-US" sz="1000" spc="-1" strike="noStrike" baseline="30000">
                <a:solidFill>
                  <a:srgbClr val="000000"/>
                </a:solidFill>
                <a:latin typeface="Tahoma"/>
                <a:ea typeface="ＭＳ Ｐゴシック"/>
              </a:rPr>
              <a:t>th</a:t>
            </a:r>
            <a:r>
              <a:rPr b="0" i="1" lang="en-US" sz="1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edi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Gay, Mills, &amp; Airasi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5638680" y="6384960"/>
            <a:ext cx="2210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© 2009 Pearson Education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3434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DBEE4-AFE4-4A94-95A4-7C0AC4AD9ECD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33520" cy="68580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861320" y="6362640"/>
            <a:ext cx="1130400" cy="41904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4">
            <a:lum bright="70000" contrast="-70000"/>
          </a:blip>
          <a:stretch/>
        </p:blipFill>
        <p:spPr>
          <a:xfrm>
            <a:off x="1143000" y="609480"/>
            <a:ext cx="7763040" cy="5562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Chapter 15: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Narrative Research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jectiv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efly state the definition and purpose of narrative research and describe the narrative research proces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 narrative research techniques, including restorying; oral history; examination of photographs, memory boxes, and other artifacts; storytelling; letter writing; and autobiographical and biographical writin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Narrative Research Proces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199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ative research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 initial narrative research question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What have been the participant’s experiences in starting this teaching posi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What has surprised the participan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 the researcher’s rol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would seek IRB approval and would obtain all permissio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Narrative Research Proces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199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 data collection methods, paying particular attention to interviewing, and collect the dat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would conduct interviews and would like to observe our participant’s classroom.  We would also likely examine other classroom artifac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Narrative Research Proces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199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aborate with the research participant to construct the narrative and to validate the accuracy of the stor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would work with our participant in restorying and assure the written account is accura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e the narrative accou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Types of Narrative Research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swell (1995) suggests that the numerous types of narrative research can be categorized based upon several characteristi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o authored the ac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cope of the narrativ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o provides the sto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oretical/conceptual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ther the elements are included in one narr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Types of Narrative Research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199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ples of types of narrative research for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biograph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 wr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narra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 histo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ative intervie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haracteristics of Narrative Research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123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focus on the experiences of individual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cern with the chronology of individuals’ experienc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focus on the construction of life stories based on data collected through interview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orying as a teachnique for constructing the narrative accoun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haracteristics of Narrative Research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123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lusion of context and place in the stor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aborative approach that involves the researcher and the participants in the negotiation of the final tex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arrative constructed around the question, “And then what happened?”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Narrative Research Techniqu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ative research uses multiple data sourc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narrative research include field notes on shared research experienc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narrative research include journal entries and letter writin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narrative research include documents and artifacts (e.g., lesson plans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ative research requires triangulation of data sourc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Narrative Data Collection Techniqu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123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orying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archer conducts the interview and transcribes the audiota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archer transcribes the data based upon key elements that are identified in the sto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archer organizes the story into a chronological sequence with attention to setting, characters, actions, problems, and resolu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researcher invites the participant to collaborate on the final narrativ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Narrative Data Collection Techniqu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al his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ipants share oral histori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ructured or open-ended inter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sk participant to create timeline (chronicl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sk participant to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tographs, memory boxes and other artif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ipants share artifacts (e.g., newpapers, etc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Narrative Research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ative research is the study of how different humans experience the world around them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ative researchers collect data about people’s lives and collaboratively construct a narrative about the experiences and meanings they contribute to the experienc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ative research has often been conducted in numerous disciplines (e.g., history, anthropology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Narrative Data Collection Techniqu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ytel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ipants tell frequent stories that are used as dat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tter wr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between the participant and the researcher is document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e-mai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biographical and biographical wr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ipants construct or collaboratively construct the writing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riting The Narrativ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123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al step in narrative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ducted collaboratively with the particip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ality of voice continues to be critical element of a narrative during the writing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Narrative Research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275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arrative research in education has been influenced by several factor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creased emphasis in teacher reflection and action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creased emphasis on teacher 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creased emphasis on empowering teach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Narrative Research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275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ative analysis (Current focu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archer collects descriptions of events through interviews and observations and synthesizes them into narratives or storie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y is the outcome of the stud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ysis of narr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archer collects stories as data and seeks to understand underlying themes from the stori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Narrative Research Proces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199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narrative research process is highly personal and requires care and sensitivit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narrative researcher must be careful with ethical guidelines as narrative research requires a very close relationship between the researcher and the particip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Narrative Research Proces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relationship between the narrative researcher and the participant needs to be mutually constructed and should include an equality of voic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ality of voice is required so that the participant feels empowered to tell the stor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narrative researcher must determine if she has adequate time and the necessary personal characteristics to conduct this form of research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Narrative Research Proces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199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Consider the experiences of a first- year teacher in a failing urban school district as an example to think through aspects of the narrative research proces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Narrative Research Proces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199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ative research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y purpose of the research study and a phenomenon to explor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our example the purpose is to explore the experiences and tell the story of a first year teacher in a failing urban school distric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Narrative Research Proces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199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ative research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y an individual who can help you learn about the phenomen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our example the individual we select would be a first year teacher in an urban district.  We would attend carefully to the participants’ characteristics and our own characteristics to select an informant who could best collaborate on this sto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hristina Robb</cp:lastModifiedBy>
  <dcterms:modified xsi:type="dcterms:W3CDTF">2008-05-19T19:24:47Z</dcterms:modified>
  <cp:revision>78</cp:revision>
  <dc:subject/>
  <dc:title>AutoCAD Architecture 2008: Part I: Getting Started</dc:title>
</cp:coreProperties>
</file>